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8F1-F552-4945-B1BD-7A52BD71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D8E-A99A-4B03-9CC0-D9037FB2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728-A5E7-47D9-9336-9412AB90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2BA-CBD8-48C9-8435-A38584A8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B23-E71D-4388-A9FD-51D4945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19D-3026-42CE-833F-F2EF20E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2CA-A29F-4BAC-AC77-230652A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F1E-0506-4DBB-9299-A1BFDEB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434-64DF-4E47-ABEC-DDC4417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5A3-2837-47B3-B3FA-97D08BA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863-5BD3-4290-B9D5-9C7D0004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D62-9285-4BA5-AF28-4E3E13D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15FB-6A40-4C8D-882E-5BF7388B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on/ Understand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the story of the “Three Little Pigs” in your own wor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2315670000[1]"/>
          <p:cNvPicPr/>
          <p:nvPr/>
        </p:nvPicPr>
        <p:blipFill>
          <a:blip r:embed="rId1"/>
          <a:stretch/>
        </p:blipFill>
        <p:spPr>
          <a:xfrm>
            <a:off x="4876920" y="1676520"/>
            <a:ext cx="35449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 or Ap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, concepts, theories in new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using required skills or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, demonstrate, calculate, complete, illustrate, show, solve, examine, modify, relate, change, classify, experiment,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CBD19652_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483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/Apply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model of a swing set with paper and explain how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EN00081_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3622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or Analy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hidden mea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, separate, order, explain, connect, classify, arrange, divide, compare, select, explain, in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j0157995"/>
          <p:cNvPicPr/>
          <p:nvPr/>
        </p:nvPicPr>
        <p:blipFill>
          <a:blip r:embed="rId1"/>
          <a:stretch/>
        </p:blipFill>
        <p:spPr>
          <a:xfrm rot="2309400">
            <a:off x="4419720" y="3428640"/>
            <a:ext cx="40384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/ Analyz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Pj0433220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thesis or 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ld ideas to create new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from given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knowledge from several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, draw concl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, integrate, modify, rearrange, substitute, plan, create, design, invent, what if?, compose, formulate, prepare, generalize, re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3987930000[1]"/>
          <p:cNvPicPr/>
          <p:nvPr/>
        </p:nvPicPr>
        <p:blipFill>
          <a:blip r:embed="rId1"/>
          <a:stretch/>
        </p:blipFill>
        <p:spPr>
          <a:xfrm>
            <a:off x="4648320" y="2131920"/>
            <a:ext cx="40384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/Cre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magazine cover that would appeal to kids in your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4033020000[1]"/>
          <p:cNvPicPr/>
          <p:nvPr/>
        </p:nvPicPr>
        <p:blipFill>
          <a:blip r:embed="rId1"/>
          <a:stretch/>
        </p:blipFill>
        <p:spPr>
          <a:xfrm>
            <a:off x="4648320" y="2133720"/>
            <a:ext cx="38862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on or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discriminate between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value of theories, 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hoices based on reasoned arg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value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subj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, decide, rank, grade, test, measure, recommend, convince, select, judge, explain, discriminate, support, conclude, compare,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Cj02812700000[1]"/>
          <p:cNvPicPr/>
          <p:nvPr/>
        </p:nvPicPr>
        <p:blipFill>
          <a:blip r:embed="rId1"/>
          <a:stretch/>
        </p:blipFill>
        <p:spPr>
          <a:xfrm>
            <a:off x="5105520" y="1981080"/>
            <a:ext cx="324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/Evalu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Cj01500140000[1]"/>
          <p:cNvPicPr/>
          <p:nvPr/>
        </p:nvPicPr>
        <p:blipFill>
          <a:blip r:embed="rId1"/>
          <a:stretch/>
        </p:blipFill>
        <p:spPr>
          <a:xfrm>
            <a:off x="4876920" y="2362320"/>
            <a:ext cx="3557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an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 you should always start with the low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have basic knowledge before you can advance to deeper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great way to improve your knowledge is to READ, READ, READ about your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, always be sure to stretch your thinking to the high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you’ve explored your basic knowledge base, challenge your self to new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keep a Bloom’s Taxonomy “cheat” sheet with you to help you hit the higher levels of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Pj0411747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m’s Taxonomy is a chart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3886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fter the creator, Benjamin Bl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19920" y="3124080"/>
            <a:ext cx="2514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xonomy is an arrangement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way to group thing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905120" y="205740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886200" y="20574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MCj04315480000[1]"/>
          <p:cNvPicPr/>
          <p:nvPr/>
        </p:nvPicPr>
        <p:blipFill>
          <a:blip r:embed="rId1"/>
          <a:stretch/>
        </p:blipFill>
        <p:spPr>
          <a:xfrm>
            <a:off x="327672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the next slide.  This is a kid’s friendly copy of Bloom’s Taxonomy and put it in your research folder for quick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326830000[1]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4"/>
          <p:cNvSpPr/>
          <p:nvPr/>
        </p:nvSpPr>
        <p:spPr>
          <a:xfrm rot="16200000">
            <a:off x="6150600" y="8486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8" descr="j0089072"/>
          <p:cNvPicPr/>
          <p:nvPr/>
        </p:nvPicPr>
        <p:blipFill>
          <a:blip r:embed="rId1"/>
          <a:stretch/>
        </p:blipFill>
        <p:spPr>
          <a:xfrm rot="16200000">
            <a:off x="4138200" y="5220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0" descr="j0271194"/>
          <p:cNvPicPr/>
          <p:nvPr/>
        </p:nvPicPr>
        <p:blipFill>
          <a:blip r:embed="rId2"/>
          <a:stretch/>
        </p:blipFill>
        <p:spPr>
          <a:xfrm rot="16200000">
            <a:off x="1944720" y="112320"/>
            <a:ext cx="547560" cy="77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1" descr="j0197591"/>
          <p:cNvPicPr/>
          <p:nvPr/>
        </p:nvPicPr>
        <p:blipFill>
          <a:blip r:embed="rId3"/>
          <a:stretch/>
        </p:blipFill>
        <p:spPr>
          <a:xfrm rot="16200000">
            <a:off x="5641200" y="911880"/>
            <a:ext cx="693720" cy="85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2" descr="j0128385"/>
          <p:cNvPicPr/>
          <p:nvPr/>
        </p:nvPicPr>
        <p:blipFill>
          <a:blip r:embed="rId4"/>
          <a:stretch/>
        </p:blipFill>
        <p:spPr>
          <a:xfrm rot="16200000">
            <a:off x="7535160" y="2980440"/>
            <a:ext cx="66528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3"/>
          <p:cNvSpPr/>
          <p:nvPr/>
        </p:nvSpPr>
        <p:spPr>
          <a:xfrm rot="16200000">
            <a:off x="1828800" y="-1067040"/>
            <a:ext cx="5257800" cy="8915400"/>
          </a:xfrm>
          <a:prstGeom prst="upArrow">
            <a:avLst>
              <a:gd name="adj1" fmla="val 50000"/>
              <a:gd name="adj2" fmla="val -3112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4"/>
          <p:cNvSpPr/>
          <p:nvPr/>
        </p:nvSpPr>
        <p:spPr>
          <a:xfrm rot="16200000">
            <a:off x="-1611720" y="28612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5"/>
          <p:cNvSpPr/>
          <p:nvPr/>
        </p:nvSpPr>
        <p:spPr>
          <a:xfrm rot="16200000">
            <a:off x="1053360" y="3215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6"/>
          <p:cNvSpPr/>
          <p:nvPr/>
        </p:nvSpPr>
        <p:spPr>
          <a:xfrm rot="16200000">
            <a:off x="-955080" y="2879280"/>
            <a:ext cx="541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Cr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Arial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7"/>
          <p:cNvSpPr/>
          <p:nvPr/>
        </p:nvSpPr>
        <p:spPr>
          <a:xfrm rot="16200000">
            <a:off x="282960" y="2929680"/>
            <a:ext cx="52873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Arial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Arial"/>
                <a:ea typeface="Arial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8"/>
          <p:cNvSpPr/>
          <p:nvPr/>
        </p:nvSpPr>
        <p:spPr>
          <a:xfrm rot="16200000">
            <a:off x="1181880" y="2415960"/>
            <a:ext cx="61722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Arial"/>
                <a:ea typeface="Arial"/>
              </a:rPr>
              <a:t>Analy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9"/>
          <p:cNvSpPr/>
          <p:nvPr/>
        </p:nvSpPr>
        <p:spPr>
          <a:xfrm rot="16200000">
            <a:off x="3530520" y="3495240"/>
            <a:ext cx="4065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Arial"/>
                <a:ea typeface="Arial"/>
              </a:rPr>
              <a:t>App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Arial"/>
                <a:ea typeface="Arial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0"/>
          <p:cNvSpPr/>
          <p:nvPr/>
        </p:nvSpPr>
        <p:spPr>
          <a:xfrm rot="16200000">
            <a:off x="4129920" y="2742120"/>
            <a:ext cx="56700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Arial"/>
                <a:ea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1"/>
          <p:cNvSpPr/>
          <p:nvPr/>
        </p:nvSpPr>
        <p:spPr>
          <a:xfrm rot="16200000">
            <a:off x="5507640" y="2663640"/>
            <a:ext cx="54514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Arial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3"/>
          <p:cNvSpPr/>
          <p:nvPr/>
        </p:nvSpPr>
        <p:spPr>
          <a:xfrm>
            <a:off x="1600200" y="64771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kurwongbss.eq.edu.au/thinking/Bloom/BLOOM%20(one%20page%20poster)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.uvic.ca/learn/program/hndouts/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.ash.org.au/researchskills/dal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oaks.nvg.org/taxonomy-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Image:Bloom%27s_Rose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bloom.gif (3876 bytes)"/>
          <p:cNvPicPr/>
          <p:nvPr/>
        </p:nvPicPr>
        <p:blipFill>
          <a:blip r:embed="rId1"/>
          <a:stretch/>
        </p:blipFill>
        <p:spPr>
          <a:xfrm>
            <a:off x="2133720" y="1523880"/>
            <a:ext cx="5162400" cy="3697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220968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see the levels organized differently in other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Dr. Benjamin Bloom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teacher, thinker, &amp; inven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rked at a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a list about how we think about thinking… you may want to read that a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enjamin Bloom and the taxonomy of learning"/>
          <p:cNvPicPr/>
          <p:nvPr/>
        </p:nvPicPr>
        <p:blipFill>
          <a:blip r:embed="rId1"/>
          <a:stretch/>
        </p:blipFill>
        <p:spPr>
          <a:xfrm>
            <a:off x="5715000" y="2133720"/>
            <a:ext cx="2409840" cy="2871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6400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ls of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levels of learning according to Dr.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s build on one another. The six levels all have to do with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ne is the lowest level of thinking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ix is the highest level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4245700000[1]"/>
          <p:cNvPicPr/>
          <p:nvPr/>
        </p:nvPicPr>
        <p:blipFill>
          <a:blip r:embed="rId1"/>
          <a:stretch/>
        </p:blipFill>
        <p:spPr>
          <a:xfrm>
            <a:off x="601992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3668480000[1]"/>
          <p:cNvPicPr/>
          <p:nvPr/>
        </p:nvPicPr>
        <p:blipFill>
          <a:blip r:embed="rId2"/>
          <a:stretch/>
        </p:blipFill>
        <p:spPr>
          <a:xfrm>
            <a:off x="6019920" y="2362320"/>
            <a:ext cx="514080" cy="59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Cj03203220000[1]"/>
          <p:cNvPicPr/>
          <p:nvPr/>
        </p:nvPicPr>
        <p:blipFill>
          <a:blip r:embed="rId3"/>
          <a:stretch/>
        </p:blipFill>
        <p:spPr>
          <a:xfrm>
            <a:off x="6095880" y="320040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MCj03400000000[1]"/>
          <p:cNvPicPr/>
          <p:nvPr/>
        </p:nvPicPr>
        <p:blipFill>
          <a:blip r:embed="rId4"/>
          <a:stretch/>
        </p:blipFill>
        <p:spPr>
          <a:xfrm>
            <a:off x="6019920" y="4038480"/>
            <a:ext cx="44928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MCSY01808_0000[1]"/>
          <p:cNvPicPr/>
          <p:nvPr/>
        </p:nvPicPr>
        <p:blipFill>
          <a:blip r:embed="rId5"/>
          <a:stretch/>
        </p:blipFill>
        <p:spPr>
          <a:xfrm>
            <a:off x="6019920" y="4876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MCSY01115_0000[1]"/>
          <p:cNvPicPr/>
          <p:nvPr/>
        </p:nvPicPr>
        <p:blipFill>
          <a:blip r:embed="rId6"/>
          <a:stretch/>
        </p:blipFill>
        <p:spPr>
          <a:xfrm>
            <a:off x="6019920" y="5715000"/>
            <a:ext cx="48096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6781680" y="1676520"/>
            <a:ext cx="28958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me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have renamed these levels to make them easier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even switch the last two level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410080" y="1676520"/>
            <a:ext cx="3505320" cy="45406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- 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-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 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-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- Cr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-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MCj03203220000[1]"/>
          <p:cNvPicPr/>
          <p:nvPr/>
        </p:nvPicPr>
        <p:blipFill>
          <a:blip r:embed="rId1"/>
          <a:stretch/>
        </p:blipFill>
        <p:spPr>
          <a:xfrm>
            <a:off x="4800600" y="335268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Cj03400000000[1]"/>
          <p:cNvPicPr/>
          <p:nvPr/>
        </p:nvPicPr>
        <p:blipFill>
          <a:blip r:embed="rId2"/>
          <a:stretch/>
        </p:blipFill>
        <p:spPr>
          <a:xfrm>
            <a:off x="4724280" y="41911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MCSY01808_0000[1]"/>
          <p:cNvPicPr/>
          <p:nvPr/>
        </p:nvPicPr>
        <p:blipFill>
          <a:blip r:embed="rId3"/>
          <a:stretch/>
        </p:blipFill>
        <p:spPr>
          <a:xfrm>
            <a:off x="4648320" y="4952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MCSY01115_0000[1]"/>
          <p:cNvPicPr/>
          <p:nvPr/>
        </p:nvPicPr>
        <p:blipFill>
          <a:blip r:embed="rId4"/>
          <a:stretch/>
        </p:blipFill>
        <p:spPr>
          <a:xfrm>
            <a:off x="4648320" y="5791320"/>
            <a:ext cx="480960" cy="53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MCj04245700000[1]"/>
          <p:cNvPicPr/>
          <p:nvPr/>
        </p:nvPicPr>
        <p:blipFill>
          <a:blip r:embed="rId5"/>
          <a:stretch/>
        </p:blipFill>
        <p:spPr>
          <a:xfrm>
            <a:off x="472428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MCj03668480000[1]"/>
          <p:cNvPicPr/>
          <p:nvPr/>
        </p:nvPicPr>
        <p:blipFill>
          <a:blip r:embed="rId6"/>
          <a:stretch/>
        </p:blipFill>
        <p:spPr>
          <a:xfrm>
            <a:off x="4724280" y="2514600"/>
            <a:ext cx="514440" cy="595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7"/>
          <p:cNvSpPr/>
          <p:nvPr/>
        </p:nvSpPr>
        <p:spPr>
          <a:xfrm>
            <a:off x="3962520" y="5105520"/>
            <a:ext cx="533160" cy="106668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 rot="10014600">
            <a:off x="7924320" y="49528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or Rememb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and recall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dates, events,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major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y of subjec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define, tell, describe, identify, show, label, collect, examine, tabulate, quote, name, who, when, whe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313210000[1]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/Remember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ist of vegetable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117010000[1]"/>
          <p:cNvPicPr/>
          <p:nvPr/>
        </p:nvPicPr>
        <p:blipFill>
          <a:blip r:embed="rId1"/>
          <a:stretch/>
        </p:blipFill>
        <p:spPr>
          <a:xfrm>
            <a:off x="4648320" y="242424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hension or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p m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knowledge into new 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facts, compare, contr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, group, infer ca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consequ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, describe, interpret, contrast, predict, associate, distinguish, estimate, differentiate, discuss, ex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32680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4075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24:31Z</dcterms:created>
  <dc:creator>User</dc:creator>
  <dc:description/>
  <dc:language>en-US</dc:language>
  <cp:lastModifiedBy>Lane</cp:lastModifiedBy>
  <dcterms:modified xsi:type="dcterms:W3CDTF">2015-06-14T09:04:38Z</dcterms:modified>
  <cp:revision>23</cp:revision>
  <dc:subject/>
  <dc:title>Slide 1</dc:title>
</cp:coreProperties>
</file>